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38A-73C1-4CC5-AB72-4B47D8AF1D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3F36-4388-45C5-892F-567C48B0A05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3887-C3B6-45D4-BA2E-3A0E83A493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582-3F53-4DA3-90BC-6BDEC8B2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CF0-5CD5-475A-A1FC-10109F71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D7F-E614-47E6-8D45-55F97D8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1BB-E9E2-44C2-96E0-C20E7D4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0EE1-840A-4CB4-8CC3-F6E1CEE1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99AA-2D9E-400A-8B71-6D8FE29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F561-DBDF-4AAF-B666-D791CAF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3E54-768B-4050-BB36-3A279AB2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5AB6-27AB-4580-BCB6-0220A4E8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8009-BCB0-4B5C-8794-54905A4E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8B4D-C890-4C31-AE65-4648B1B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6C7-0820-4D21-A251-5EEA20E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57D3-A257-43CE-B28B-596CB5C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0C44-6EA4-43F9-AF97-31C78D0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AFE5-0F2A-4B08-8D2B-70CF7388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2DE0-7EF2-4EE6-B0C4-7F139F56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41EF-D5B4-4483-9604-8632F1DB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12E8-3B1C-4E8B-9869-78456F4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EB30-9B8C-45D5-A2B8-E7593BA9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62D1-F80B-4819-9A09-11F1DA8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7779-59F3-439A-9C88-52B2ECA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599C-05BC-41EE-8BA2-48E88148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02-8240-429C-8BBB-E9BCDBB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E19A-3868-4BCA-A33B-F79BF35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CEF9-96E4-42E2-A9C7-686E697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B6CD-C498-41BF-BD39-B78E08D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DDCD-0CFD-45E4-AAAB-BBAC8DD3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D26E-7711-458D-A024-4B28006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26FA-B6C8-41C4-88E1-BC103D3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65BA-8015-4998-A966-EBFD437F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C397-4405-46E7-8DA7-AA82638B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461E-CD4A-4597-9C48-01703AD6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FCBE-6C21-4057-A58C-D7F743A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C6F-FFD4-4ECF-909E-E4E41D3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2938-DB03-48C3-B53E-F166357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6770-7E14-4A33-A278-A02F253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9399-6E3A-4752-86B6-6A15DCF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74E6-C351-4446-BCEF-B1DDDBE3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F858-837F-4849-B5A5-13B6EAF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B918-4716-4D98-9477-16C27C3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48A9-9B67-43F7-A3AF-FD80170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840E-0FC5-4368-BF54-BFD8512B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ADBC-2288-4CD1-99FF-5182B763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EC92-5BB5-4033-B1CB-BECF1E87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BA7-35B3-46DC-BF3E-E1D1B88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6BE7-89CA-4F49-A274-E211181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FAC5-AA25-47CE-90E8-B33C3BFF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0AAE4-4E7B-4C25-807A-3E48B364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BC40-33B7-40D2-85E6-FE07DE1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0B3F-2E76-42E5-807B-7DCFD6B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CA4F-BCAF-4917-9378-08D60C7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1718-6E53-43A6-9454-4BEBA4C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CC29-B947-4181-96EA-91675A7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C7B08-7242-45CD-B48C-DAA4ED9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DF33-2D26-4000-8A6E-951E921D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C80-6B82-448F-9AB7-48A060C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A39C-3C9C-4976-97E0-AA95757D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D4404-978D-4DB8-8358-28C32AA7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709B-63D2-4724-A02F-7AE1309F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6088-511B-4366-84DC-2947FCB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4A7F-8C3E-4D66-BD64-9E8D584D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C105-A69B-4393-B523-E21DB1A8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B810-B0D6-454D-9B70-2BCFC74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43C6-5A5F-4C76-AA3A-C51C0FA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DD22-E3CA-47CB-B658-7F0C74B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8E2E-AEA8-4C6C-9F5A-4C1D894D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C8E-D39B-4D87-935C-E44BB06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19B99-F8D8-4278-9768-709B9DC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22BCD-50F0-4101-9CB8-8067642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68F74-6F1B-4AD1-AB50-36E5A1DE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F47D-749C-4C23-88DD-1C93C105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4C9E-E1B7-4D5F-AA47-0E343245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DDF1E-C327-4545-967B-5AB27135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F02E0-EE17-4A50-A8A9-ED7D524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AC8B-AE5B-495E-9D11-13CB6333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CC3D3-746E-48EB-AB97-EF9E3CF9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F81F-AA2C-442C-8B96-98F28D7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546-9920-41B9-A0EC-F15D0CA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ACBD-7434-4DA7-9DEE-932C5C3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CEAD-2BC0-4D2F-ACF9-E8EDD98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91F7-92B1-4673-B878-0400AA2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BC55-647B-45EB-A7BE-4D299BCD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A4A7-10D6-42D0-AC05-D39FF61F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12C1-0A3B-4849-832C-F20F821A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365B-DF7E-492C-9F99-03C1F138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1785-4A3E-4377-BB1A-9595247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DF3D0-CD07-479F-BEBA-349917FB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6E9FA-3B32-4CBC-9C0A-3CD335AB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8FA-5AF2-4BE6-9F89-5A7408F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71EE4-5522-4B65-BFA2-C4DED5E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DFE48-EFA3-49D9-9533-C726650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3C9E-319D-424A-A250-6DCD4EA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A080-889C-42B9-AD68-14D8DE4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8781-D666-43D1-A74E-EFEB172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C1379-F22F-44E1-9DE2-0351FCA2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D722-F98E-4BE9-97B8-513E15BE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771-FB4D-45C9-9955-DB559EC241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F45-4F6C-41B2-865E-48BD48A98E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B112-2F94-45FC-81C0-1128A7223E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BB8-11B0-49AD-9B77-D446D8D848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BAE-0A3D-42DD-9BA2-74FC9BA853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4433-F1A0-4089-9C33-168C832854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C567-B436-4606-9147-C8BE0C475D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4A41-A4C2-4CCA-9CA5-A4CF137D901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ample Surve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as is the accuracy of a 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ility is the reliability of a 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-73080" y="-55440"/>
            <a:ext cx="8454960" cy="10490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7"/>
          <p:cNvGrpSpPr/>
          <p:nvPr/>
        </p:nvGrpSpPr>
        <p:grpSpPr>
          <a:xfrm>
            <a:off x="1295280" y="1447920"/>
            <a:ext cx="6400800" cy="5329080"/>
            <a:chOff x="1295280" y="1447920"/>
            <a:chExt cx="6400800" cy="5329080"/>
          </a:xfrm>
        </p:grpSpPr>
        <p:pic>
          <p:nvPicPr>
            <p:cNvPr id="411" name="Picture 5" descr=""/>
            <p:cNvPicPr/>
            <p:nvPr/>
          </p:nvPicPr>
          <p:blipFill>
            <a:blip r:embed="rId2"/>
            <a:stretch/>
          </p:blipFill>
          <p:spPr>
            <a:xfrm>
              <a:off x="1318320" y="4166280"/>
              <a:ext cx="2856960" cy="26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3" descr=""/>
            <p:cNvPicPr/>
            <p:nvPr/>
          </p:nvPicPr>
          <p:blipFill>
            <a:blip r:embed="rId3"/>
            <a:stretch/>
          </p:blipFill>
          <p:spPr>
            <a:xfrm>
              <a:off x="1295280" y="1447920"/>
              <a:ext cx="2787120" cy="270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" descr=""/>
            <p:cNvPicPr/>
            <p:nvPr/>
          </p:nvPicPr>
          <p:blipFill>
            <a:blip r:embed="rId4"/>
            <a:stretch/>
          </p:blipFill>
          <p:spPr>
            <a:xfrm>
              <a:off x="4632840" y="1479600"/>
              <a:ext cx="2599920" cy="26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6" descr=""/>
            <p:cNvPicPr/>
            <p:nvPr/>
          </p:nvPicPr>
          <p:blipFill>
            <a:blip r:embed="rId5"/>
            <a:stretch/>
          </p:blipFill>
          <p:spPr>
            <a:xfrm>
              <a:off x="4360680" y="4072680"/>
              <a:ext cx="3335400" cy="270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228600" y="3048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Sampling distribution: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If we take lots of samples of the same size and make a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"/>
          <p:cNvGrpSpPr/>
          <p:nvPr/>
        </p:nvGrpSpPr>
        <p:grpSpPr>
          <a:xfrm>
            <a:off x="1066680" y="838080"/>
            <a:ext cx="4572000" cy="2166120"/>
            <a:chOff x="1066680" y="838080"/>
            <a:chExt cx="4572000" cy="2166120"/>
          </a:xfrm>
        </p:grpSpPr>
        <p:sp>
          <p:nvSpPr>
            <p:cNvPr id="458" name="Rectangle 3"/>
            <p:cNvSpPr/>
            <p:nvPr/>
          </p:nvSpPr>
          <p:spPr>
            <a:xfrm>
              <a:off x="4114800" y="8380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3733560" y="106668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495680" y="137124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876920" y="18288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3352680" y="18288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2971800" y="21337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1066680" y="2666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0"/>
            <p:cNvSpPr/>
            <p:nvPr/>
          </p:nvSpPr>
          <p:spPr>
            <a:xfrm>
              <a:off x="5257800" y="22860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2590560" y="22860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 flipV="1">
              <a:off x="27432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469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479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6"/>
          <p:cNvGrpSpPr/>
          <p:nvPr/>
        </p:nvGrpSpPr>
        <p:grpSpPr>
          <a:xfrm>
            <a:off x="2514600" y="3809880"/>
            <a:ext cx="3733920" cy="2090160"/>
            <a:chOff x="2514600" y="3809880"/>
            <a:chExt cx="3733920" cy="2090160"/>
          </a:xfrm>
        </p:grpSpPr>
        <p:sp>
          <p:nvSpPr>
            <p:cNvPr id="496" name="Rectangle 30"/>
            <p:cNvSpPr/>
            <p:nvPr/>
          </p:nvSpPr>
          <p:spPr>
            <a:xfrm>
              <a:off x="4114800" y="38098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1"/>
            <p:cNvSpPr/>
            <p:nvPr/>
          </p:nvSpPr>
          <p:spPr>
            <a:xfrm>
              <a:off x="4495680" y="4038480"/>
              <a:ext cx="38124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4"/>
            <p:cNvSpPr/>
            <p:nvPr/>
          </p:nvSpPr>
          <p:spPr>
            <a:xfrm>
              <a:off x="3733920" y="434340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487692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3352680" y="5105520"/>
              <a:ext cx="38124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 flipV="1">
              <a:off x="426708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7"/>
            <p:cNvSpPr/>
            <p:nvPr/>
          </p:nvSpPr>
          <p:spPr>
            <a:xfrm>
              <a:off x="2514600" y="55627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0"/>
            <p:cNvSpPr/>
            <p:nvPr/>
          </p:nvSpPr>
          <p:spPr>
            <a:xfrm>
              <a:off x="525780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25"/>
          <p:cNvSpPr/>
          <p:nvPr/>
        </p:nvSpPr>
        <p:spPr>
          <a:xfrm>
            <a:off x="304920" y="22860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5"/>
          <p:cNvSpPr/>
          <p:nvPr/>
        </p:nvSpPr>
        <p:spPr>
          <a:xfrm>
            <a:off x="4038480" y="114300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6"/>
          <p:cNvSpPr/>
          <p:nvPr/>
        </p:nvSpPr>
        <p:spPr>
          <a:xfrm>
            <a:off x="3657600" y="1371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3276720" y="1676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8"/>
          <p:cNvSpPr/>
          <p:nvPr/>
        </p:nvSpPr>
        <p:spPr>
          <a:xfrm>
            <a:off x="2514600" y="2133720"/>
            <a:ext cx="38088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9"/>
          <p:cNvSpPr/>
          <p:nvPr/>
        </p:nvSpPr>
        <p:spPr>
          <a:xfrm>
            <a:off x="1371600" y="2438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7"/>
          <p:cNvSpPr/>
          <p:nvPr/>
        </p:nvSpPr>
        <p:spPr>
          <a:xfrm>
            <a:off x="5486400" y="28954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609480" y="2590920"/>
            <a:ext cx="381240" cy="152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52"/>
          <p:cNvGrpSpPr/>
          <p:nvPr/>
        </p:nvGrpSpPr>
        <p:grpSpPr>
          <a:xfrm>
            <a:off x="4800600" y="1371600"/>
            <a:ext cx="3429000" cy="1371600"/>
            <a:chOff x="4800600" y="1371600"/>
            <a:chExt cx="3429000" cy="1371600"/>
          </a:xfrm>
        </p:grpSpPr>
        <p:sp>
          <p:nvSpPr>
            <p:cNvPr id="513" name="Rectangle 59"/>
            <p:cNvSpPr/>
            <p:nvPr/>
          </p:nvSpPr>
          <p:spPr>
            <a:xfrm>
              <a:off x="4800600" y="137160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0"/>
            <p:cNvSpPr/>
            <p:nvPr/>
          </p:nvSpPr>
          <p:spPr>
            <a:xfrm>
              <a:off x="5943600" y="167616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61"/>
            <p:cNvSpPr/>
            <p:nvPr/>
          </p:nvSpPr>
          <p:spPr>
            <a:xfrm>
              <a:off x="6705720" y="213372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2"/>
            <p:cNvSpPr/>
            <p:nvPr/>
          </p:nvSpPr>
          <p:spPr>
            <a:xfrm>
              <a:off x="7467840" y="243864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0"/>
            <p:cNvSpPr/>
            <p:nvPr/>
          </p:nvSpPr>
          <p:spPr>
            <a:xfrm>
              <a:off x="7848720" y="259092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64"/>
            <p:cNvSpPr/>
            <p:nvPr/>
          </p:nvSpPr>
          <p:spPr>
            <a:xfrm>
              <a:off x="7086600" y="243864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5"/>
            <p:cNvSpPr/>
            <p:nvPr/>
          </p:nvSpPr>
          <p:spPr>
            <a:xfrm>
              <a:off x="6324480" y="213372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6"/>
            <p:cNvSpPr/>
            <p:nvPr/>
          </p:nvSpPr>
          <p:spPr>
            <a:xfrm>
              <a:off x="5562360" y="167616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67"/>
            <p:cNvSpPr/>
            <p:nvPr/>
          </p:nvSpPr>
          <p:spPr>
            <a:xfrm>
              <a:off x="5181480" y="137160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31"/>
          <p:cNvSpPr/>
          <p:nvPr/>
        </p:nvSpPr>
        <p:spPr>
          <a:xfrm>
            <a:off x="990720" y="2590920"/>
            <a:ext cx="380880" cy="152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5"/>
          <p:cNvSpPr/>
          <p:nvPr/>
        </p:nvSpPr>
        <p:spPr>
          <a:xfrm>
            <a:off x="1752480" y="2438280"/>
            <a:ext cx="38124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6"/>
          <p:cNvSpPr/>
          <p:nvPr/>
        </p:nvSpPr>
        <p:spPr>
          <a:xfrm>
            <a:off x="2133720" y="2133720"/>
            <a:ext cx="38088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7"/>
          <p:cNvSpPr/>
          <p:nvPr/>
        </p:nvSpPr>
        <p:spPr>
          <a:xfrm>
            <a:off x="2895480" y="1676520"/>
            <a:ext cx="38124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8"/>
          <p:cNvSpPr/>
          <p:nvPr/>
        </p:nvSpPr>
        <p:spPr>
          <a:xfrm>
            <a:off x="4419720" y="1143000"/>
            <a:ext cx="38088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72388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vocab word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biased Estimat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04920" y="17524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When the center of a sampl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histogram) is equal to the true parame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3"/>
          <p:cNvGrpSpPr/>
          <p:nvPr/>
        </p:nvGrpSpPr>
        <p:grpSpPr>
          <a:xfrm>
            <a:off x="152280" y="3048120"/>
            <a:ext cx="6172200" cy="1807560"/>
            <a:chOff x="152280" y="3048120"/>
            <a:chExt cx="6172200" cy="1807560"/>
          </a:xfrm>
        </p:grpSpPr>
        <p:sp>
          <p:nvSpPr>
            <p:cNvPr id="531" name="Text Box 25"/>
            <p:cNvSpPr/>
            <p:nvPr/>
          </p:nvSpPr>
          <p:spPr>
            <a:xfrm>
              <a:off x="152280" y="4006800"/>
              <a:ext cx="314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30"/>
            <p:cNvSpPr/>
            <p:nvPr/>
          </p:nvSpPr>
          <p:spPr>
            <a:xfrm>
              <a:off x="3060360" y="3048120"/>
              <a:ext cx="296640" cy="13424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2"/>
            <p:cNvSpPr/>
            <p:nvPr/>
          </p:nvSpPr>
          <p:spPr>
            <a:xfrm>
              <a:off x="2763720" y="3239640"/>
              <a:ext cx="296640" cy="115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34"/>
            <p:cNvSpPr/>
            <p:nvPr/>
          </p:nvSpPr>
          <p:spPr>
            <a:xfrm>
              <a:off x="2466720" y="3495600"/>
              <a:ext cx="296640" cy="894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6"/>
            <p:cNvSpPr/>
            <p:nvPr/>
          </p:nvSpPr>
          <p:spPr>
            <a:xfrm>
              <a:off x="1873440" y="3879000"/>
              <a:ext cx="296640" cy="511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8"/>
            <p:cNvSpPr/>
            <p:nvPr/>
          </p:nvSpPr>
          <p:spPr>
            <a:xfrm>
              <a:off x="983160" y="4134960"/>
              <a:ext cx="296640" cy="255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2"/>
            <p:cNvSpPr/>
            <p:nvPr/>
          </p:nvSpPr>
          <p:spPr>
            <a:xfrm flipV="1">
              <a:off x="3238560" y="426240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7"/>
            <p:cNvSpPr/>
            <p:nvPr/>
          </p:nvSpPr>
          <p:spPr>
            <a:xfrm>
              <a:off x="1873080" y="4518360"/>
              <a:ext cx="290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1"/>
            <p:cNvSpPr/>
            <p:nvPr/>
          </p:nvSpPr>
          <p:spPr>
            <a:xfrm>
              <a:off x="389520" y="4262760"/>
              <a:ext cx="296640" cy="1278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52"/>
            <p:cNvGrpSpPr/>
            <p:nvPr/>
          </p:nvGrpSpPr>
          <p:grpSpPr>
            <a:xfrm>
              <a:off x="3654000" y="3239640"/>
              <a:ext cx="2670480" cy="1150560"/>
              <a:chOff x="3654000" y="3239640"/>
              <a:chExt cx="2670480" cy="1150560"/>
            </a:xfrm>
          </p:grpSpPr>
          <p:sp>
            <p:nvSpPr>
              <p:cNvPr id="541" name="Rectangle 31"/>
              <p:cNvSpPr/>
              <p:nvPr/>
            </p:nvSpPr>
            <p:spPr>
              <a:xfrm>
                <a:off x="3654000" y="3239640"/>
                <a:ext cx="296640" cy="11505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"/>
              <p:cNvSpPr/>
              <p:nvPr/>
            </p:nvSpPr>
            <p:spPr>
              <a:xfrm>
                <a:off x="4543920" y="3495240"/>
                <a:ext cx="296640" cy="894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5"/>
              <p:cNvSpPr/>
              <p:nvPr/>
            </p:nvSpPr>
            <p:spPr>
              <a:xfrm>
                <a:off x="5137560" y="3879000"/>
                <a:ext cx="296640" cy="5112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7"/>
              <p:cNvSpPr/>
              <p:nvPr/>
            </p:nvSpPr>
            <p:spPr>
              <a:xfrm>
                <a:off x="5731200" y="4134600"/>
                <a:ext cx="296640" cy="2556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0"/>
              <p:cNvSpPr/>
              <p:nvPr/>
            </p:nvSpPr>
            <p:spPr>
              <a:xfrm>
                <a:off x="6027840" y="4262400"/>
                <a:ext cx="296640" cy="1278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43"/>
              <p:cNvSpPr/>
              <p:nvPr/>
            </p:nvSpPr>
            <p:spPr>
              <a:xfrm>
                <a:off x="5434200" y="4134600"/>
                <a:ext cx="296640" cy="2556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44"/>
              <p:cNvSpPr/>
              <p:nvPr/>
            </p:nvSpPr>
            <p:spPr>
              <a:xfrm>
                <a:off x="4840920" y="3879000"/>
                <a:ext cx="296640" cy="5112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45"/>
              <p:cNvSpPr/>
              <p:nvPr/>
            </p:nvSpPr>
            <p:spPr>
              <a:xfrm>
                <a:off x="4247280" y="3495240"/>
                <a:ext cx="296640" cy="894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46"/>
              <p:cNvSpPr/>
              <p:nvPr/>
            </p:nvSpPr>
            <p:spPr>
              <a:xfrm>
                <a:off x="3950640" y="3239640"/>
                <a:ext cx="296640" cy="11505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Rectangle 31"/>
            <p:cNvSpPr/>
            <p:nvPr/>
          </p:nvSpPr>
          <p:spPr>
            <a:xfrm>
              <a:off x="686160" y="4262760"/>
              <a:ext cx="296640" cy="1278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8"/>
            <p:cNvSpPr/>
            <p:nvPr/>
          </p:nvSpPr>
          <p:spPr>
            <a:xfrm>
              <a:off x="1279800" y="4134960"/>
              <a:ext cx="296640" cy="255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49"/>
            <p:cNvSpPr/>
            <p:nvPr/>
          </p:nvSpPr>
          <p:spPr>
            <a:xfrm>
              <a:off x="1576440" y="3879000"/>
              <a:ext cx="296640" cy="511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0"/>
            <p:cNvSpPr/>
            <p:nvPr/>
          </p:nvSpPr>
          <p:spPr>
            <a:xfrm>
              <a:off x="2170080" y="3495600"/>
              <a:ext cx="296640" cy="894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1"/>
            <p:cNvSpPr/>
            <p:nvPr/>
          </p:nvSpPr>
          <p:spPr>
            <a:xfrm>
              <a:off x="3357000" y="3048120"/>
              <a:ext cx="296640" cy="13424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0"/>
          <p:cNvGrpSpPr/>
          <p:nvPr/>
        </p:nvGrpSpPr>
        <p:grpSpPr>
          <a:xfrm>
            <a:off x="5638680" y="4616280"/>
            <a:ext cx="3733920" cy="2090160"/>
            <a:chOff x="5638680" y="4616280"/>
            <a:chExt cx="3733920" cy="2090160"/>
          </a:xfrm>
        </p:grpSpPr>
        <p:sp>
          <p:nvSpPr>
            <p:cNvPr id="556" name="Rectangle 30"/>
            <p:cNvSpPr/>
            <p:nvPr/>
          </p:nvSpPr>
          <p:spPr>
            <a:xfrm>
              <a:off x="7238880" y="46162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1"/>
            <p:cNvSpPr/>
            <p:nvPr/>
          </p:nvSpPr>
          <p:spPr>
            <a:xfrm>
              <a:off x="7619760" y="4844880"/>
              <a:ext cx="38124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4"/>
            <p:cNvSpPr/>
            <p:nvPr/>
          </p:nvSpPr>
          <p:spPr>
            <a:xfrm>
              <a:off x="6858000" y="514980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5"/>
            <p:cNvSpPr/>
            <p:nvPr/>
          </p:nvSpPr>
          <p:spPr>
            <a:xfrm>
              <a:off x="8001000" y="56070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8"/>
            <p:cNvSpPr/>
            <p:nvPr/>
          </p:nvSpPr>
          <p:spPr>
            <a:xfrm>
              <a:off x="6476760" y="5911920"/>
              <a:ext cx="38124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 flipV="1">
              <a:off x="7391160" y="6064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27"/>
            <p:cNvSpPr/>
            <p:nvPr/>
          </p:nvSpPr>
          <p:spPr>
            <a:xfrm>
              <a:off x="5638680" y="63691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8381880" y="60642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AMPLING DESIG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o sample a population)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304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GOOD Sampling Design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1) Simple Random Sample  (SRS) -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ry experimental unit has the same chance of being picked for the sample and every possible sample has the same chance of being selec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Content Placeholder 1"/>
          <p:cNvSpPr/>
          <p:nvPr/>
        </p:nvSpPr>
        <p:spPr>
          <a:xfrm>
            <a:off x="38088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ive every subject in the population a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 the table of random digits and read across to select your s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gnore repeats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808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380880" y="838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ake an SRS of 5 from the following list.  Start at line 31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80880" y="206532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mit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on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llo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Nizzo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chaef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p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yer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ngric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etric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rel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s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hitt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or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3808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380880" y="838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ake an SRS of 4 from the following list.  Start at line 18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80880" y="206532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Glon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Cu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zarko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ellavan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ood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otl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Kell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he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mmin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d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Ne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emgnani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’Bri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ob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renz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k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in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opulation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ll exp. units that you want to make a conclusion ab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mpling frame 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 of individuals from whom the sample is drawn. Not always the population of interes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s: phone book, registered voter list, list of tax returns, school rost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mple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mall group of the population that you do an experiment/study 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) Stratified Random Sample-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not S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228600" y="10666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 Divide population into groups with something in common (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TR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ample: gender, ag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228600" y="2895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 Take separate SRS in each strata and combine these to make the fu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 can sometimes be a % of each str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want to take an accurate sample of CB South students.  There are 540 sophomores, 585 juniors, and 530 seniors.   Take a stratified random sampl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3) Systematic Random Sample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first exp. unit is selected at random. Each additional exp. unit is selected at a predetermined interva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762120" y="2133720"/>
            <a:ext cx="8001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rveying every 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son that walks thru the back door of CB Sout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lecting a random person to start with (like person #4) and then taking every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son on the list after that (person #14, person #24, person #34, etc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4) Cluster Sample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opulation is broken into groups. All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embers in one or more groups are taken a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sam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5) Multistage Sample - 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d for large popula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sampling the population of the US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overnment wants to survey the entire population.  However they cannot just give every person a number and do an SRS.  So they follow this proces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457200" y="259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Randomly select 5 counties from each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In each of those counties, randomly select 6 towns/c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457200" y="42670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In each town/city, randomly select 4 stre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On each street, select 3 houses, and interview the head of the household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5720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IASED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457200" y="868320"/>
            <a:ext cx="8305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1) Voluntary Respons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ooses itself by responding to a general app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all-in, write-i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57200" y="441972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2) Convenienc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lecting individuals that are the easiest to reach/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5228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JUST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304920" y="685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need to survey a random sample of 30 passengers on a flight from San Francisco to Tokyo.  Name each sampling method described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6320" y="2451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ick ever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passenger that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76320" y="2981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om the boarding list, randomly choose 5 people flying first class, and 25 of the other passe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76320" y="3962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ly generate 30 seat numbers and survey the passengers who sit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76320" y="4952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ly select a seat position (right window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ft window, right aisle, etc.) and survey all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ople in those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"/>
          <p:cNvSpPr/>
          <p:nvPr/>
        </p:nvSpPr>
        <p:spPr>
          <a:xfrm>
            <a:off x="228600" y="324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Rectangles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W answ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8) (a) population = all Americans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true percent of people who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ant marijuana legalized for medicinal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eason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people who visit th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ebsit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all people who responded to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question on the websit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voluntary response sampl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voluntary 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undercoverage- not everyone visits th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te and sees the ques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10) (a) population = all voters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issues that voters ar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interested i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blocks in the city’s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election district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all residents that the staf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members can find that da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stratified, then convenienc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ithin each strat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voluntary 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non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◦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aramet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Describes the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Fixed Val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Often Unkn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◦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Describes the sample of a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Changes from sample to s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Use the statistics from repeated samples to estimate the value of the parame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4"/>
          <p:cNvSpPr/>
          <p:nvPr/>
        </p:nvSpPr>
        <p:spPr>
          <a:xfrm>
            <a:off x="0" y="76320"/>
            <a:ext cx="8839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) (a) population = all cars on the ro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parameter = (10%) true % of cars withou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registratio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, and safe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sampling frame = cars that pass thru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adb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sample = the cars they s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) method = convenience 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biases = not random time of day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 may not be represent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cars on the roa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-360" y="152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14) (a) population = all dairy farms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% with contaminants in them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all dairy farms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the farms visited by insp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?  SRS?  Or multistage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none, as long as farms ar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andomly selected and so is th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milk that is tested at each farm.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5228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ast vocab…  types of BIAS i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6320" y="2362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: Telephone polls, registered voter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is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76320" y="3505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Non-response-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ias introduced when a large amount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of those sampl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 not resp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76320" y="4952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: people don’t answer phone, don’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mail back questionnaires, refuse to answer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76320" y="6858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Undercoverag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mpling in a way that leaves out a certain portion of the population that should be in your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0" y="213372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respondents 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responses trying to please the inter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unwillingness to reveal personal facts o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leading or confus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320" y="2286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Response Bi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thing in the survey design that influences the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304920" y="2286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89 #15, 16, 17, 20, 22, 23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304920" y="4572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tat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ndard Dev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por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Object 2"/>
          <p:cNvGraphicFramePr/>
          <p:nvPr/>
        </p:nvGraphicFramePr>
        <p:xfrm>
          <a:off x="3733920" y="1143000"/>
          <a:ext cx="3524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1430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6477120" y="1143000"/>
          <a:ext cx="3236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43000"/>
                    <a:ext cx="32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3733920" y="1676520"/>
          <a:ext cx="35244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676520"/>
                    <a:ext cx="3524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6477120" y="1752480"/>
          <a:ext cx="26352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1752480"/>
                    <a:ext cx="26352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3733920" y="2362320"/>
          <a:ext cx="35244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2362320"/>
                    <a:ext cx="352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8"/>
          <p:cNvGraphicFramePr/>
          <p:nvPr/>
        </p:nvGraphicFramePr>
        <p:xfrm>
          <a:off x="6477120" y="2286000"/>
          <a:ext cx="352440" cy="4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286000"/>
                    <a:ext cx="3524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457200" y="33526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ample is said to b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the statistics accurately reflect the popula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  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polling agency takes a sample of 1500 American citizens from a list of tax returns and asks them if they are lactose intolerant. 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12%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ay yes.  This is interesting, since it has been shown tha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15%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of the population is lactose intoler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2% = _________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5% = 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opulation?  Sampling frame?  Samp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380880" y="304920"/>
            <a:ext cx="838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21% = _________   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ampling frame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380880" y="45720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?  Sample?  Sampling fr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380880" y="45720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 researcher wants to find out which of two pain relievers works better.  He takes 100 volunteers and randomly gives half of them medicine #1 and the other half medicine #2. 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?  Sampling frame?  Samp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533520" y="2430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ome more vocab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Bias vs.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33520" y="152244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consistent, repeated measurements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hat are not close to the popula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533520" y="30621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533520" y="36576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16:54Z</dcterms:created>
  <dc:creator>PWHEELES</dc:creator>
  <dc:description/>
  <dc:language>en-US</dc:language>
  <cp:lastModifiedBy>Lauren Senske</cp:lastModifiedBy>
  <dcterms:modified xsi:type="dcterms:W3CDTF">2011-10-11T13:40:28Z</dcterms:modified>
  <cp:revision>111</cp:revision>
  <dc:subject/>
  <dc:title>Chapter 12</dc:title>
</cp:coreProperties>
</file>